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gif" ContentType="image/gi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999F-773F-4F7C-B56A-EE6B55B71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E33D-A8B3-4C8B-8B7D-3FBB2662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4B10-F618-4AC7-9C02-F4BF38F5D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2C0A-7F95-47D8-B684-F7DCF883B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F837-2509-49CA-A31D-816B0379B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4694-30DA-48FF-916F-4599D34D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8D5F-C67F-4957-AAAC-7FAEE0E0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BF9A-9D08-4059-9488-8276F901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30F2-7EEB-4D38-A0B1-FBBE3612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83A5-AA95-4415-AD13-078E6285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BEA4-4A90-4A27-A88B-AA8AC69F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269C-833A-4F25-AE20-E867EC11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D13F-3D6B-41F6-B07E-B89FE73C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5223-021D-4FC3-9052-B62255E5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72E3-A830-4232-9DEF-431232C9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4D86-3281-428D-AF66-7181E6B35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8B1C-9B05-4983-BAF1-D17207567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99DF-8BE9-4210-A311-B58FE72C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85FF-B4C3-401E-89FC-418582EE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F7B8-FBEB-4E57-99F6-CEA4C347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0525-8D45-40D5-8AEB-7EA9A3B7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16E4-8440-40B1-9560-6F83FF73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925F-E2D6-4789-BECA-FD7941F9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CCA6-D953-489C-ACC8-81FFE71F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9C80-2708-4C16-B8F9-E85B34260E7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na Pronschinske, Brad Nisiewicz, Katia Colin, Michele Law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C89F-427B-49F9-84E2-EB7812822C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C:\Documents and Settings\colink\Local Settings\Temporary Internet Files\Content.IE5\97JP7G3P\MPj04403160000[1].jpg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92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colink\Local Settings\Temporary Internet Files\Content.IE5\97JP7G3P\MPj04403160000[1].jpg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927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colink\Local Settings\Temporary Internet Files\Content.IE5\97JP7G3P\MPj04403160000[1].jpg"/>
          <p:cNvPicPr/>
          <p:nvPr/>
        </p:nvPicPr>
        <p:blipFill>
          <a:blip r:embed="rId3"/>
          <a:stretch/>
        </p:blipFill>
        <p:spPr>
          <a:xfrm>
            <a:off x="-6480" y="5937120"/>
            <a:ext cx="9156960" cy="927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Documents and Settings\colink\Local Settings\Temporary Internet Files\Content.IE5\97JP7G3P\MPj04403160000[1].jpg"/>
          <p:cNvPicPr/>
          <p:nvPr/>
        </p:nvPicPr>
        <p:blipFill>
          <a:blip r:embed="rId4"/>
          <a:stretch/>
        </p:blipFill>
        <p:spPr>
          <a:xfrm>
            <a:off x="-6480" y="-6480"/>
            <a:ext cx="9156960" cy="927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D7BA-4B2C-4D66-A50F-9AE5C895452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na Pronschinske, Brad Nisiewicz, Katia Colin, Michele Law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ECB1-62EA-483B-83AB-916F2B724B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C:\Documents and Settings\colink\Local Settings\Temporary Internet Files\Content.IE5\RZF77SXO\MCj04325480000[1].png"/>
          <p:cNvPicPr/>
          <p:nvPr/>
        </p:nvPicPr>
        <p:blipFill>
          <a:blip r:embed="rId1"/>
          <a:stretch/>
        </p:blipFill>
        <p:spPr>
          <a:xfrm>
            <a:off x="1054080" y="1822320"/>
            <a:ext cx="7169040" cy="41277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25142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alibri"/>
              </a:rPr>
              <a:t>Creator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colink\Local Settings\Temporary Internet Files\Content.IE5\97JP7G3P\MPj04403160000[1].jpg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927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Documents and Settings\colink\Local Settings\Temporary Internet Files\Content.IE5\97JP7G3P\MPj04403160000[1].jpg"/>
          <p:cNvPicPr/>
          <p:nvPr/>
        </p:nvPicPr>
        <p:blipFill>
          <a:blip r:embed="rId3"/>
          <a:stretch/>
        </p:blipFill>
        <p:spPr>
          <a:xfrm>
            <a:off x="-6480" y="5937120"/>
            <a:ext cx="9156960" cy="927360"/>
          </a:xfrm>
          <a:prstGeom prst="rect">
            <a:avLst/>
          </a:prstGeom>
          <a:ln w="0">
            <a:noFill/>
          </a:ln>
        </p:spPr>
      </p:pic>
      <p:pic>
        <p:nvPicPr>
          <p:cNvPr id="90" name="music.mp3" descr=""/>
          <p:cNvPicPr/>
          <p:nvPr/>
        </p:nvPicPr>
        <p:blipFill>
          <a:blip r:embed="rId4"/>
          <a:stretch/>
        </p:blipFill>
        <p:spPr>
          <a:xfrm>
            <a:off x="-304920" y="152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1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54C9-1A50-4BE6-BE05-928D809A6B7F}" type="datetime">
              <a:rPr b="0" lang="en-US" sz="14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96A9-F3FC-4B44-BF8A-25842A23701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ooter Placeholder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nna Pronschinske, Brad Nisiewicz, Katia Colin, Michele Law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5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Group’s Missio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create entertainment for the people listening to the mus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uthors job is to inspire the listen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89D0-BD0C-4EAA-819B-353F7A2B58AE}" type="datetime">
              <a:rPr b="0" lang="en-US" sz="14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4742-E808-4F21-BF96-8014B0019CA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nna Pronschinske, Brad Nisiewicz, Katia Colin, Michele Law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Documents and Settings\colink\Local Settings\Temporary Internet Files\Content.IE5\I46F7AGD\MCj04404040000[1].png"/>
          <p:cNvPicPr/>
          <p:nvPr/>
        </p:nvPicPr>
        <p:blipFill>
          <a:blip r:embed="rId1"/>
          <a:stretch/>
        </p:blipFill>
        <p:spPr>
          <a:xfrm rot="809400">
            <a:off x="5866920" y="35053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ransition advTm="8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o We Repres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ors repres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jor &amp; independent music art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h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ng Wri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mma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m Produc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2E41-4309-4DBA-BA6B-0C1E314FF15F}" type="datetime">
              <a:rPr b="0" lang="en-US" sz="14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48FC-0A27-452C-80B1-B0A3CB81D93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nna Pronschinske, Brad Nisiewicz, Katia Colin, Michele Law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C:\Documents and Settings\colink\Local Settings\Temporary Internet Files\Content.IE5\Z2VPR2HM\MCj02412550000[1].wmf"/>
          <p:cNvPicPr/>
          <p:nvPr/>
        </p:nvPicPr>
        <p:blipFill>
          <a:blip r:embed="rId1"/>
          <a:stretch/>
        </p:blipFill>
        <p:spPr>
          <a:xfrm>
            <a:off x="5711760" y="3193920"/>
            <a:ext cx="2371680" cy="2311560"/>
          </a:xfrm>
          <a:prstGeom prst="rect">
            <a:avLst/>
          </a:prstGeom>
          <a:ln w="0">
            <a:noFill/>
          </a:ln>
        </p:spPr>
      </p:pic>
    </p:spTree>
  </p:cSld>
  <p:transition advTm="8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pyright and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eer-to-peer Opin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Canadian music creators want to legalize p2p file shar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rgue it’s a way for foreign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listen to their music and lear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their cul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creators specially in the US believe file sharing should be controlled bet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04F9-9CAD-4529-AEAE-EECD1C09D26D}" type="datetime">
              <a:rPr b="0" lang="en-US" sz="14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E3DA-6310-41EF-B165-BEEBF9A0830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nna Pronschinske, Brad Nisiewicz, Katia Colin, Michele Law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0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pyright and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Peer-to-peer Opinio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(continue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the Music Creators, copyright is very importa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ir recognition on their work depends much on the copyright la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3059-FD20-4858-A786-17FE101B3684}" type="datetime">
              <a:rPr b="0" lang="en-US" sz="14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E806-529C-4C8A-810F-69D7C55BECF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nna Pronschinske, Brad Nisiewicz, Katia Colin, Michele Law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C:\Documents and Settings\colink\Local Settings\Temporary Internet Files\Content.IE5\RZF77SXO\MMj01783080000[1].gif"/>
          <p:cNvPicPr/>
          <p:nvPr/>
        </p:nvPicPr>
        <p:blipFill>
          <a:blip r:embed="rId1"/>
          <a:stretch/>
        </p:blipFill>
        <p:spPr>
          <a:xfrm>
            <a:off x="6553080" y="44197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 advTm="8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at changes do we want in copyright law?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want iTunes and other music sharing sites to pay for the song samples offe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want file sharing to be legal bu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the one sharing it p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7E58-7A90-4B89-86F4-2855E9EE38CC}" type="datetime">
              <a:rPr b="0" lang="en-US" sz="14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1D9D-1CB9-48B8-AC90-3EB537482B7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nna Pronschinske, Brad Nisiewicz, Katia Colin, Michele Law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C:\Documents and Settings\colink\Local Settings\Temporary Internet Files\Content.IE5\I46F7AGD\MCj04338540000[1].png"/>
          <p:cNvPicPr/>
          <p:nvPr/>
        </p:nvPicPr>
        <p:blipFill>
          <a:blip r:embed="rId1"/>
          <a:stretch/>
        </p:blipFill>
        <p:spPr>
          <a:xfrm rot="20937000">
            <a:off x="4114440" y="38095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 advTm="8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are the Benef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y charge for sample music the creators will get more mone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creative ide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CBAA-DDEB-4C90-B2D0-E98862C7F56C}" type="datetime">
              <a:rPr b="0" lang="en-US" sz="14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1B26-913A-47C6-94D6-A520F445580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nna Pronschinske, Brad Nisiewicz, Katia Colin, Michele Law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C:\Documents and Settings\colink\Local Settings\Temporary Internet Files\Content.IE5\97JP7G3P\MPj04450040000[1].jpg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5181480" y="2433600"/>
            <a:ext cx="3240360" cy="419580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5:19:50Z</dcterms:created>
  <dc:creator>user</dc:creator>
  <dc:description/>
  <dc:language>en-US</dc:language>
  <cp:lastModifiedBy>user</cp:lastModifiedBy>
  <dcterms:modified xsi:type="dcterms:W3CDTF">2010-02-10T15:18:06Z</dcterms:modified>
  <cp:revision>14</cp:revision>
  <dc:subject/>
  <dc:title>Creators</dc:title>
</cp:coreProperties>
</file>